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D9E37-B268-41A9-9B6F-98B51B2B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528C1-42D4-4CAA-8352-424219CC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55EF6-B11C-4E14-B36A-7534C2BD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199DA-83B5-4F92-BC20-4FA9C466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52CE3-1712-4077-8468-1537DBCB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2C10F-F3FF-4AB2-9525-1608FA2E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74EEE-104F-4D7E-825D-E9B77225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A4A33-10A1-4EFF-B6B0-E7E2C74E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3B7A4-1AE0-4F43-A324-C0DCA2B2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2D6E6-FD42-4FEA-85C1-EF86C5F8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BB4C3-7D85-4774-ABC9-F4D3C85A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0E62B-D564-445B-BE45-68ACD7A1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007A-4115-42AF-9983-5C372161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7AB05-234E-48BE-9FA7-3D65803C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479E2-F4C0-45CB-ABFC-A17E8499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F4791-625D-475B-ADA4-8597DA9F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59742-42BC-412D-8AB1-5395977E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3E4C8-E498-48A7-A820-B3E952F4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90505-3F9D-4E8F-AB74-5DC994E0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D4EFD-8FA6-4F67-A337-3702A25A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FD0D4-1D02-4390-AEDB-2247F6C5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B7389-4BC9-43B7-ACCD-E13EE2DE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6B12D-A9CA-43E3-BA0A-CB82524C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B8DB2-B3CE-4F8C-AF0E-921B0D91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1F7A5-D910-4B4B-97E2-CA52A3AD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5B864-C535-4097-AECC-C9D8D1C0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EE31B-A4D7-4C08-AB19-248EA958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C6F13-A496-49D1-85C2-1489D2AC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72F1A-0C93-414B-ADEE-137C0F93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FF8C0-8A9B-4CAA-8CD9-EBB71B56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49288-05F9-4911-B79F-18FD759A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4D1F4-9642-40AA-9183-FE3064FF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06D8B-E0FE-46D9-BBBE-08E87556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31CE8-3809-40F1-91DA-1148A0AB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7723-5CAC-4DB9-B8E9-6DE6063B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28ED6-2D11-4736-83F4-FB2FCF82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3E137-3A15-4CAB-806A-476A0F29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4AF6A-34B1-42C0-86B0-C0BB0718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7814-70FB-41F0-B70E-185C81EC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5B6E-EB3B-4EB3-B1EB-6162867E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69CF-8807-4051-80BE-E816BF62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9DDA-06E8-4B7B-B258-3C533834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0EB5-1A8D-4555-AFBF-469D833C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CA77-CD4D-4E01-B70C-10BC77C5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5D31C-51CC-445C-AFAF-603CEC9A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199A-3ACB-40E1-8949-B0F3B261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592B-7765-4C23-AA04-B6263C4A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9F83-5CF0-4297-BC6D-FE5F9C85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6CAD-3AE2-495F-BD56-6B11FE93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E8DA-238A-40E5-B9D3-372D5503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0B8C58-D293-4829-93F3-1CB767ED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6574C4-4AC6-4BC4-97B7-7020EAA1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A25509-6639-4D68-833E-966634C5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4DF2A7-1494-4D4C-AA15-818129FE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179BF8-6293-41F2-8661-0D284AC1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2555F-C81E-47CC-88C4-0F752F87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D580A-3DE5-4911-9D61-EF21E9D1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00F2E5-ACFA-4BB9-80AF-2A42EB9D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82A2DF-741E-431C-BF71-A0EA9262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C5086D-FC2C-4BDC-84B2-C439DCE5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66672F-7E97-42AE-A1B4-0207799F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804902-3F8F-49E7-8114-F5A05E9E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D8F813-58C7-409D-A7A1-ECFBDF06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2C49A-BC06-4D64-88BF-587BEDE3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4755F-2792-4CBD-817F-E38F902D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39B6F-AD24-4FDE-BE0B-737989EF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1973-71AF-4A6F-BD31-8A10D467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60B03-2A81-4D1D-80CF-EE27884D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1D740-FFB2-43C4-86C7-4852E3F8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FEFF8-0150-48C7-94F3-2E7AC6F3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4446E-7831-45A4-A9F8-85F4CD2E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954F3-C325-4DCB-8AD3-75E5B9B1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57A5E-F8B3-4028-B47D-3CBA3366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BEF4A-DF61-4E43-B99D-FC62B324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34EBA-F5AF-4D0E-8482-580A2017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97F73-1DBB-4A1D-B15B-79E207AE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9FF87-9528-4F6F-A53C-08AAFD02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CF88-C90F-41B1-82A3-A2F872AE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5496E-6EAB-4092-9CDD-FB158FC8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A0AE5-43E1-4B95-9E61-2DCF6851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0665C-08AD-443F-A1CC-E834C687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1CC5D-C376-460F-AF85-6C8494F8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87AA0-4D0A-4817-BB9A-D59ED0CE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95C2B-9242-4B91-B8A2-F00ABCC5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A802C-8A68-4D76-A684-D37A5364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EAF06-F624-44C0-8CE1-7E2BDD2C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C57EA-CF93-4804-BED4-6308826F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E0787-6B54-47FA-9D2A-B20E0B0A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89BA-2139-4290-BE8C-22E4B307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CD5FB-624D-4318-9972-6D9A6880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46441-2C05-4D7F-BFD9-475A52A1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7CA9D-1BCB-4521-A68C-2356E797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1860D-5D6E-4D66-9A31-FB47F2E5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AE0F4-28D3-48BA-B098-EF2F5196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8F004-B2BD-4E7A-A1B8-71087C29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FF6C9-2F1B-4811-A590-32835862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7C64F-F379-43F2-AD8E-D08A0B60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11FE5-EB36-442E-AB89-65F46EDD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5AFD5-ED91-4286-8C24-95BAFAE0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C9F5C-9D3C-413F-AC64-04E59250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9AD40-AE18-43A9-AF2C-576AB44F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FD4D4-02D4-4242-B976-E1CB5330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489E7-C0C3-4C19-AC04-A9E51DD2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50364-388E-4D3B-B05D-A6CEA5C1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CF38F-164B-4FA4-B819-C0289E48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748D8-BC53-41EE-AB59-3B1B7A34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98CEA-6573-455D-B688-AB20CA5F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CA52C-2EC0-4061-AB93-6A8A9ED6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A96B7-530F-4671-B2EE-E5DB1776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6699D-F508-4710-BEA1-1120B7AB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09ADF-6051-4BBA-BDC6-1D3B4C92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35011-09D8-41EA-8F88-2BBEF706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6DA9E-DCDE-49FF-B197-004D271D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7B500-D4A0-48C7-99E8-C96EF01C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3DB06-F049-44CE-8A47-1568AD0B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73C16-43EF-4448-9AB3-BEB89616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B480C-03F7-4929-AAF0-1E18B239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43EDE-0D0E-439C-8021-B6015550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93F89-AE09-4C53-87D5-FFC2060D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B7B32-97C7-40B1-A801-8E709788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F1864-5323-4299-B22D-D6193270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52DB3-3B12-44B8-89BC-DE144588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1645C-D504-4EC7-AE5F-86DDF25C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9E39A-8E6C-4729-BACF-B17D8940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B3B70-9D2C-4D94-AAF3-A638F077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1149A-5B0A-4FD4-AC9B-FC6BE46C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E10A6-D983-4F87-9A94-EB39F7CB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FB721-E3AF-4828-B8A4-90853FF7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3A727-3314-4572-9601-FC603C19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DA0DF-FEB6-42E9-8ED7-77052D53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5F705-6010-41BB-AA55-65EE6DB2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F9ED5-4DDC-4B57-A1E1-7F31CC74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3C14-03F4-4768-996D-0D79209C44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6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B32F-EC9C-4D70-A360-805FAC3E0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7E1B-5392-48C6-993B-D983A0B9C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D8AA-3A19-4793-AC4D-36EFABB540E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27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C375-8EC3-4EF3-B5C7-D6C5EC88E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384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DF19-6914-4ACA-9C28-C2CFDCEA2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4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64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C426-0EA8-4F13-B065-28DF732A40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46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48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73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CE31-87FF-4104-83DA-567E56B465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5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5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5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5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86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86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87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88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88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9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0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91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92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92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92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3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93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93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93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4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4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4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4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95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95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95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96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6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AB29-EA65-410C-B33A-DDC0157DD69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02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02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03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03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03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04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04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04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04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05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05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06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06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06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07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07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07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07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08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08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08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09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09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09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0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0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10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10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11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11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11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12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12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12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12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13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3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13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14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07C0-FCAE-46BC-BD90-E586009B8283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0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92E4-4EE2-48E3-B37D-03104A81D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defence.gov.au/news/NAVYNEWS/editions/5004/images/15-engineer%2520pic.jpg&amp;imgrefurl=http://www.defence.gov.au/news/NAVYNEWS/editions/5004/features/feature3.htm&amp;h=465&amp;w=600&amp;sz=311&amp;hl=en&amp;start=12&amp;um=1&amp;tbnid=EzPjiemKDeoV2M:&amp;tbnh=105&amp;tbnw=135&amp;prev=/images%3Fq%3Dengineer%2B%26um%3D1%26hl%3Den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images.google.com/imgres?imgurl=http://i3.photobucket.com/albums/y91/WesMolebash/invitation2.gif&amp;imgrefurl=http://www.vipercomics.com/webComics/yht/labels/Randomness.asp&amp;h=552&amp;w=274&amp;sz=40&amp;hl=en&amp;start=9&amp;um=1&amp;tbnid=IfTxd4cj2DuOmM:&amp;tbnh=133&amp;tbnw=66&amp;prev=/images%3Fq%3Danimated%2Bbachelor%2527s%2Bdegree%2Bpics%26um%3D1%26hl%3Den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tateuniversity.com/assets/logo/image/9269/large/University_of_Phoenix_San_Diego-building.jpg&amp;imgrefurl=http://www.stateuniversity.com/universities/CA/University_of_Phoenix_San_Diego.html&amp;h=412&amp;w=640&amp;sz=31&amp;hl=en&amp;start=2&amp;um=1&amp;tbnid=5q_Z0ZArvHoSLM:&amp;tbnh=88&amp;tbnw=137&amp;prev=/images%3Fq%3Dphoenix%2Buniversity%2Bpics%26um%3D1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ziahr.com/uploaded_images/IMG_3223-731582.JPG&amp;imgrefurl=http://www.coziahr.com/&amp;h=1200&amp;w=1600&amp;sz=376&amp;hl=en&amp;start=5&amp;tbnid=lMbSw0j6Oqo1VM:&amp;tbnh=113&amp;tbnw=150&amp;prev=/images%3Fq%3Da%2Blot%2Bof%2Bpeople%2Bpics%26gbv%3D2%26hl%3D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nthonares.net/JET_tokamak.jpg&amp;imgrefurl=http://www.anthonares.net/index.php%3Ftag%3DSpace-Advocacy&amp;h=463&amp;w=800&amp;sz=136&amp;hl=en&amp;start=8&amp;tbnid=sYE5f-N8YvMIcM:&amp;tbnh=83&amp;tbnw=143&amp;prev=/images%3Fq%3Dnuclear%2Bengineer%26gbv%3D2%26hl%3D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Rockwell Extra Bold"/>
              </a:rPr>
              <a:t>ENGINE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-228960" y="175212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 Extra Bold"/>
              </a:rPr>
              <a:t>So you want to be an engineer well to be an engineer your going to need a couple of th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nclusion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in conclusion engineering is a pretty cool jo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get to work with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get a good sal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lly there is no big downsides of being an engine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 Rounded MT Bold"/>
              </a:rPr>
              <a:t>What is an engine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ngineer is someone who solves technical problems by using theories and principles of science and mathematic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38280" y="3657600"/>
            <a:ext cx="3657600" cy="2819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at do you need to do to be an engine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an an engineer you need to meet these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need to earn a bachelor’s degree in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bachelor’s degree in physical science or mathema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licensed you Have to take a program that is accredited by the 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ccreditation board for engineering and technology for four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3962520"/>
            <a:ext cx="1905120" cy="2895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gineers Advanc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start out as an entry level engineer you gain experience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ll make you work more independently with decisions, developing designs, and solving probl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earning more experience you can become a technical specialist, supervisor over the staff or team of engineers or technicia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you can become an engineering manager or go to managerial or sale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p Engineer college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me engineering colleges 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niversity of phoeni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ry institute of technolog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Georgia institute of technolog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4191120"/>
            <a:ext cx="4876920" cy="2666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gineer sal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tarting out engineers get paid between 40 to 80 thousand dollars depending on what kind of engineer when you are experienced they can get paid up to 140 thousand dollar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74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8001000" cy="3733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many engineers are the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2004 there was about 1.4 million jobs as engineers and the population is expected to increase even more by 201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3733920"/>
            <a:ext cx="4419720" cy="2438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ind of engine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kinds of engineers I want to be is a nuclear engine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deal with all nuclear activit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rting out you earn about 94 thousand dolla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4724280"/>
            <a:ext cx="3962520" cy="1752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Nuclear engineer colleg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llege I am hoping to go to is the Georgia institute of technolog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t majors in nuclear engineering and is one of the top colleges in America for nuclear engineering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83" name="" descr=""/>
          <p:cNvPicPr/>
          <p:nvPr/>
        </p:nvPicPr>
        <p:blipFill>
          <a:blip r:embed="rId1"/>
          <a:stretch/>
        </p:blipFill>
        <p:spPr>
          <a:xfrm>
            <a:off x="762120" y="4572000"/>
            <a:ext cx="800100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18:32:33Z</dcterms:created>
  <dc:creator>Kenneth.Perinchief</dc:creator>
  <dc:description/>
  <dc:language>en-US</dc:language>
  <cp:lastModifiedBy>HP Authorized Customer</cp:lastModifiedBy>
  <dcterms:modified xsi:type="dcterms:W3CDTF">2008-05-04T21:14:32Z</dcterms:modified>
  <cp:revision>9</cp:revision>
  <dc:subject/>
  <dc:title>ENGINEER</dc:title>
</cp:coreProperties>
</file>